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click.wav" ContentType="audio/x-wav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A703-07E0-40A8-8863-A9FC46532E0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D5CF-A4F0-40BE-A242-D85BD13FECA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03A-66E8-42E5-A280-9C5E3BBE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EED2-E77F-4E64-BBD0-E9DFB335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1CEF-508D-43C7-986B-43AC1C2A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536E-E1D6-4665-95C3-6FCF8578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166-7AF9-40C5-B40C-2F303B0B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A745-6CCE-49FD-A03F-700A48A3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8909-E2A5-4167-B77D-66F245EC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BD51-F636-41F7-B9A3-EBD68B1E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7E1D-D524-49D9-967E-34D04728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B74-188B-4AAB-8E26-273ECEFB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700F-E8E9-4751-AA7B-E8321304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9080-BD40-49CD-928F-9596ECB9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3E57-94FE-44FB-99BE-CB9E675CC1F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395200" y="409320"/>
            <a:ext cx="282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3796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3796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egnaposto numero diapositiva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70F3-78B8-412D-9A89-87AF7D3CF44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571760" y="428760"/>
            <a:ext cx="157140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5786280" y="428760"/>
            <a:ext cx="1428840" cy="107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785880" y="1643040"/>
          <a:ext cx="3214800" cy="731880"/>
        </p:xfrm>
        <a:graphic>
          <a:graphicData uri="http://schemas.openxmlformats.org/drawingml/2006/table">
            <a:tbl>
              <a:tblPr/>
              <a:tblGrid>
                <a:gridCol w="321480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Viner Hand ITC"/>
                          <a:ea typeface="Times New Roman"/>
                        </a:rPr>
                        <a:t>Istituto italiano per gli studi filosofi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000760" y="1571760"/>
          <a:ext cx="3466800" cy="731880"/>
        </p:xfrm>
        <a:graphic>
          <a:graphicData uri="http://schemas.openxmlformats.org/drawingml/2006/table">
            <a:tbl>
              <a:tblPr/>
              <a:tblGrid>
                <a:gridCol w="346680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Viner Hand ITC"/>
                          <a:ea typeface="Times New Roman"/>
                        </a:rPr>
                        <a:t>Associazione etnea studi storico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Viner Hand ITC"/>
                          <a:ea typeface="Times New Roman"/>
                        </a:rPr>
                        <a:t>filosofi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Rectangle 3"/>
          <p:cNvSpPr/>
          <p:nvPr/>
        </p:nvSpPr>
        <p:spPr>
          <a:xfrm>
            <a:off x="714240" y="2835720"/>
            <a:ext cx="7858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9 </a:t>
            </a:r>
            <a:r>
              <a:rPr b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20 Marzo 2009, ore 16 - 1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DfW Printer"/>
                <a:ea typeface="Times New Roman"/>
              </a:rPr>
              <a:t>Liceo socio</a:t>
            </a:r>
            <a:r>
              <a:rPr b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it-IT" sz="3200" spc="-1" strike="noStrike">
                <a:solidFill>
                  <a:srgbClr val="000000"/>
                </a:solidFill>
                <a:latin typeface="DfW Printer"/>
                <a:ea typeface="Times New Roman"/>
              </a:rPr>
              <a:t>psico</a:t>
            </a:r>
            <a:r>
              <a:rPr b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it-IT" sz="3200" spc="-1" strike="noStrike">
                <a:solidFill>
                  <a:srgbClr val="000000"/>
                </a:solidFill>
                <a:latin typeface="DfW Printer"/>
                <a:ea typeface="Times New Roman"/>
              </a:rPr>
              <a:t>pedagogic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it-IT" sz="3200" spc="-1" strike="noStrike">
                <a:solidFill>
                  <a:srgbClr val="000000"/>
                </a:solidFill>
                <a:latin typeface="DfW Printer"/>
                <a:ea typeface="Times New Roman"/>
              </a:rPr>
              <a:t> G. Turrisi Colonn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it-IT" sz="3200" spc="-1" strike="noStrike">
                <a:solidFill>
                  <a:srgbClr val="000000"/>
                </a:solidFill>
                <a:latin typeface="DfW Printer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DfW Printer"/>
                <a:ea typeface="Times New Roman"/>
              </a:rPr>
              <a:t>via F. Filzi, 24 (piazza Montessori) Cat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3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, 6, 1106a  14-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Similmente la virtù del cavallo rende il cavallo di valore e buono per la corsa, per portare il suo cavaliere e per resistere ai nemic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Se dunque questo vale per tutti i casi, anche la virtù dell’uomo deve essere quella disposizione per cui l’uomo diventa buono e per cui compie bene la sua funzio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0015-BD5F-4E39-868E-BBCD9158BA9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 8,1099a 15-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357200"/>
            <a:ext cx="9144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La vita di costoro non ha bisogno del piacere come di qualcosa di accessorio, ma ha il piacere in se stessa. […]</a:t>
            </a:r>
            <a:r>
              <a:rPr b="1" i="1" lang="it-IT" sz="3200" spc="-1" strike="noStrike" baseline="-25000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i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Non è buono chi non compie con piacere le azioni buone; infatti nessuno direbbe giusto chi non compie con piacere azioni giuste, né liberale chi non compie con piacere azioni liberali; lo stesso vale per le altre azioni bu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1445-9C1D-43EE-A6B8-61607C4EE83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 8,1099a 15-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857240"/>
            <a:ext cx="9144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E se è così, le azioni secondo virtù saranno piacevoli per se stesse. Ma saranno di certo anche buone e belle, e in massimo grado piacevoli, buone e belle, se è vero che giudica bene di loro l’uomo di valo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948B-CB2A-4031-9E97-8BFB304ABDA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6, 1176b 34-1176a 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In effetti, il divertimento è simile al riposo, giacché gli uomini, non potendo affaticarsi in continuazione, hanno bisogno di ripo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Il riposo non è, quindi, il fine, giacché ha luogo in funzione dell’attività (οὐ δὴ τέλος ἀνάπαυσις˙ ἡ γίνεται γὰρ ἕνεκα [in vista di] τῆς ἐνέργειας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CD7A-785F-473E-8B98-48F0A45DC6E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6, 1176b 34-1176a 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Si ritiene, poi, che la vita felice sia conforme a virtù; e questa vita implica seria applicazione (…), e non consiste nel divertimento. Noi diciamo che le cose serie sono migliori di quelle fatte per ridere e per divertimento, e che, in ogni caso, l’attività della parte migliore dell’anima e dell’uomo più buono è quella di maggior valore; e l’attività del migliore è perciò stesso superiore e più idonea a procurare la felicità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878A-7B64-4506-9BBA-F57E4F6DE06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X, 9, 1169a  29-30 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680" y="128556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333399"/>
                </a:solidFill>
                <a:latin typeface="Verdana"/>
                <a:ea typeface="Verdana"/>
              </a:rPr>
              <a:t>La felicità consiste in un’attività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333399"/>
                </a:solidFill>
                <a:latin typeface="Verdana"/>
                <a:ea typeface="Verdana"/>
              </a:rPr>
              <a:t>ma è chiaro che l’attività è 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333399"/>
                </a:solidFill>
                <a:latin typeface="Verdana"/>
                <a:ea typeface="Verdana"/>
              </a:rPr>
              <a:t>divenire e non un possesso stabile.</a:t>
            </a:r>
            <a:r>
              <a:rPr b="1" i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ἠ εὐδαιμονία ἐνέργεια τις εστίν, ἠ δ’ἐνέργεια δῆλον ὅτι γίνεται καὶ οὐκ ὑπάρχει ὥσπερ κτῆμὰ τ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1C70-22C9-4962-8B30-BBDA5B977D6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6439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primato della “vita contemplativ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l significato </a:t>
            </a: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metafisico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dell’atteggiamento contemplativ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ricaduta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, essenziale e non accessoria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i tale atteggiamento sulle nostre azion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sulla nostra 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B1F2-F577-48FD-A463-6042E9663D7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Etica Nicomachea,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VI, 7, 1141a 20 – 1141b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E’ assurdo pensare che la politica e la saggezza siano la forma più alta di conoscenza, se è vero che l’uomo non è la realtà di maggior valore nell’universo. […] Se poi si dice che l’uomo è superiore a tutti gli altri animali, non cambia niente, giacché ci sono altre realtà di natura ben più divina dell’uomo […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50C6-EB46-419C-A43C-D17708AFF28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Etica Nicomachea,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7, 1177b 27-1178a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004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Ma una vita di questo tipo sarà troppo elevata per l’uomo: infatti, </a:t>
            </a:r>
            <a:r>
              <a:rPr b="1" i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non vivrà così in quanto è uomo, bensì in quanto c’è in lui qualcosa di divino</a:t>
            </a: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; e di quanto questo elemento divino eccelle sulla composita natura umana, di tanto la sua attività eccelle sull’attività conforme all’altro tipo di virt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9A2A-CF51-42F9-8B93-2C985981815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Etica Nicomachea,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7, 1177b 27-1178a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Se, dunque, l’intelletto in confronto con l’uomo è una realtà divina, anche l’attività secondo l’intelletto sarà divina in confronto con la vita umana.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M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non bisogna dar retta a coloro che consigliano all’uomo, poiché è uomo mortale, di limitarsi a pensare cose umane e mortali; anzi, al contrario, per quanto è possibile, bisogna comportarsi da immortali e far di tutto per vivere secondo la parte più nobile che è in no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DE06-123E-47B5-99F5-765DED1DB18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8267760" y="410040"/>
            <a:ext cx="40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3796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3796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egnaposto numero diapositiva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0FCA-2D91-483C-B6F2-9FD9D36F7CA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387360"/>
            <a:ext cx="90280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oncezione aristotelica della polit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e scienza della pra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'attualità di una proposta “inattua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La politica, scienza architettonica della pra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) "Poiesi" e "prassi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) L'etica-politica scienza di ciò che l'uomo de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s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Le categorie fondamentali della poli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) L'originaria costituzione intersogget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ll'uomo: "amicizia" e "giustizia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) La vita buona: vita teoretica e vita at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Etica Nicomachea,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7, 1177b 27-1178a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878688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Infatti, sebbene per la sua massa sia piccola, per potenza e per valore è molto superiore a tutte le altre. Si ammetterà, poi, che ogni uomo di identifica con questa parte, se è vero che è la sua parte principale e migliore. Sarebbe allora assurdo che egli non scegliesse la vita che gli è propria ma quella che è propria di qualcun altr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C0F5-9B22-46B2-96D0-E27E4011F56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Etica Nicomachea,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7, 1177b 27-1178a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2920" y="1357200"/>
            <a:ext cx="8786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Ciò che abbiamo detto prima verrà a proposito anche ora: ciò, infatti, che per natura è proprio di ciascun essere, è per lui per natura la cosa più buona e più piacevole; e per l’uomo, quindi, questa cosa sarà la vita secondo l’intelletto, se è vero che l’uomo è soprattutto intelletto. Questa vita, dunque, sarà anche la più fel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37B9-5A7A-43BF-970E-888FDE7BAF6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695240" y="404280"/>
            <a:ext cx="69822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3796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3796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000000"/>
                </a:solidFill>
                <a:latin typeface="Times New Roman"/>
              </a:rPr>
              <a:t>Denn diese Alten waren solid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3796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000000"/>
                </a:solidFill>
                <a:latin typeface="Times New Roman"/>
              </a:rPr>
              <a:t>als man denk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3796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3796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G.W. Leibniz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egnaposto numero diapositiva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4BBA-8240-4A53-A54C-2760E4E7F05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5480" y="357120"/>
            <a:ext cx="86439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stotele […] è comprensivo e speculativo come nessun altro filosofo, sebbene non proceda in modo sistematico. […] Nessun altro filosofo è stato altrettanto dimenticato dai moderni, e a nessun altro degli antichi siamo perciò altrettanto debitori di riparazione. […] Se la filosofia venisse presa sul serio, non vi sarebbe cosa più degna che tenere un corso di lezioni su Aristotele, il più degno di essere studiato, fra gli antichi  filosof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g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egnaposto numero diapositiva 3"/>
          <p:cNvSpPr/>
          <p:nvPr/>
        </p:nvSpPr>
        <p:spPr>
          <a:xfrm>
            <a:off x="8358120" y="6215040"/>
            <a:ext cx="57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27B0-EA51-4647-A9AB-5497D8CE6A4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539640" y="549360"/>
          <a:ext cx="8353440" cy="576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835344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Segnaposto numero diapositiva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050C-F2E8-4609-86B4-7507E42358A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3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68360" y="620640"/>
          <a:ext cx="8136000" cy="5992920"/>
        </p:xfrm>
        <a:graphic>
          <a:graphicData uri="http://schemas.openxmlformats.org/drawingml/2006/table">
            <a:tbl>
              <a:tblPr/>
              <a:tblGrid>
                <a:gridCol w="2087640"/>
                <a:gridCol w="2663640"/>
                <a:gridCol w="1800360"/>
                <a:gridCol w="1584360"/>
              </a:tblGrid>
              <a:tr h="126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ipo 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ci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gge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in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icerca il sap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ci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ticol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</a:tr>
              <a:tr h="1574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eoretic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ggetti la cui esistenza non dipende dall’uo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 se stes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osofia pr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s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ma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</a:tr>
              <a:tr h="1575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poietic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ggetti la cui esistenza dipende dall’uo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vista della modifica o produzione di un ogge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i uti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i be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</a:tr>
              <a:tr h="1573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pratic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porti tra i sogget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e guida per l’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i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Etica-politic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7" name="Segnaposto numero diapositiva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BA24-5A31-46CF-9007-A81A6B2D873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523880" y="1397160"/>
          <a:ext cx="6096240" cy="4790880"/>
        </p:xfrm>
        <a:graphic>
          <a:graphicData uri="http://schemas.openxmlformats.org/drawingml/2006/table">
            <a:tbl>
              <a:tblPr/>
              <a:tblGrid>
                <a:gridCol w="2032200"/>
                <a:gridCol w="40640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et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scienza del bene per l’uomo inteso come individuo</a:t>
                      </a:r>
                      <a:r>
                        <a:rPr b="1" lang="it-IT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nomotet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scienza della legislazione</a:t>
                      </a:r>
                      <a:r>
                        <a:rPr b="0" lang="it-IT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/>
                    </a:solidFill>
                  </a:tcPr>
                </a:tc>
              </a:tr>
              <a:tr h="825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politica  (dottrina dello Stato)</a:t>
                      </a: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7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la</a:t>
                      </a: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it-IT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costituzione migliore in senso assoluto</a:t>
                      </a: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la costituzione migliore entro certe condizioni date</a:t>
                      </a: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la</a:t>
                      </a: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it-IT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costituzione che si adatta meglio a tutte le città</a:t>
                      </a:r>
                      <a:r>
                        <a:rPr b="0" lang="it-IT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quante e quali sono le costituzioni storiche</a:t>
                      </a:r>
                      <a:r>
                        <a:rPr b="0" lang="it-IT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" name="Text Box 79"/>
          <p:cNvSpPr/>
          <p:nvPr/>
        </p:nvSpPr>
        <p:spPr>
          <a:xfrm>
            <a:off x="2627280" y="189000"/>
            <a:ext cx="352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La politica: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truttu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DBB7-FD30-4733-993C-0899CE7D98F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La “legge di Hum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è” – “non è” sono relazioni del tutto diverse da “deve” – “non dev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quin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non è legittim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passare dall’essere al dover-essere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ovv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dedurre il valore dall’ess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9900-8936-486F-81ED-2E50C7E4D4A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, 6, 1106a  14-2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[O]gni virtù ha come effetto, su ciò di cui è virtù, di metterlo in buono stato e di permettergli di compiere bene la sua funzione specifica: per esempio,la virtù dell’occhio rende valenti l’occhio e la sua funzione specifica: noi, infatti, vediamo bene per la virtù dell’occh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DDE6-81D4-4197-B61F-D97C5F33538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8:27:45Z</dcterms:created>
  <dc:creator>User name placeholder</dc:creator>
  <dc:description/>
  <dc:language>en-US</dc:language>
  <cp:lastModifiedBy>User</cp:lastModifiedBy>
  <dcterms:modified xsi:type="dcterms:W3CDTF">2009-03-17T10:35:11Z</dcterms:modified>
  <cp:revision>70</cp:revision>
  <dc:subject/>
  <dc:title>La politica di Aristotele</dc:title>
</cp:coreProperties>
</file>